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0B1-C128-4A5A-A34C-6EFC4983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43C-F363-490C-984D-49B4FE45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935-F901-42BF-9920-32937EBA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8E2-9825-4DED-85DC-684FCFF8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A84D-477D-4A56-9979-8F306C9B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650-D480-4B18-9BD5-A26DD69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4E23-F51E-4E51-AD60-3517DB6D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9D8-B210-4925-8F17-BEC3585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D75-E040-42F3-AE1D-0BEA419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760E-42C7-41CC-A10A-747464C5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608-F3BE-4263-A2C4-BC9A641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0D2-0AA9-41DE-B426-A753019D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673-1C66-4C61-AF3E-78EAA13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5985-60E4-4D99-BF11-517203B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0B52-AC2C-4976-840C-79342D6B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C312-5E8D-4361-B2D0-0B8618C6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ACB-CC75-4EB4-BE8B-27CA3B53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68A-C313-4793-AF44-F6954A7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C19-AAFD-455D-BFEB-F94226B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649-EB4D-4584-A007-AB62D2F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A06-92E7-44EC-BCB7-F734361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600-8E4B-4180-9EE6-8F264CF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A09-7FAA-468C-90BB-77F2611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DA1-E957-4587-B7D7-B7878C6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E575C2-A7C8-43FA-A90B-507991F242E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7F068F-7DF4-40D8-808F-4A6CBBB6CE0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bordagens ao Plane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vencionais: Papel químico (bluepr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entralizad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ima-Baix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odu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s: particip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escentralizad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aixo-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ocess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 planeamento convencion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lar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Explícit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equencia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nsurávei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 planeamento centrado nos actores e process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Negociáve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Flexíve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justáveis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bordagem centrada no Process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venção interac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stemas de particip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tonomia e sustentabi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scimento loc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nhec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Experiment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prend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nsolidar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struir Planeamento Particip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eçar por actividades que mobilizem o interesse das pesso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ar o processo na consciencialização e “empowerment”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mover a capacidade de liderança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rajar grupos locais a assumirem responsabilidad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actividades de investigação-ac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itar insucessos no início da ac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ir alianças entre grupos e instituições lo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struir Planeamento Particip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fortes capacidades locais na área da comunic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urar aliados influ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lorar o uso de instrumentos do Est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uma estratégia polít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o equilíbrio entre contributos endógenos e exógen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ar preparado para enfrentar e responder a obstáculos e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urar apoios internacionais (Clark, 199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um exercício democráti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actores agem numa rede de pod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á questões políticas a consider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papel do planeador é o de catalizador, facilitad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um processo de aprendizag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 prever eventos futuros e determinar efeitos directos e indire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motivações difer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as limita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diferentes graus de compromis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ordar regras e fronteir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itar jarg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hones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transpar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visionário mas realis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ir capacidade loc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unic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rajar a colabor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flexí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ar o pro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ntrar um ritmo equilibr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ter medo de avanç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balhar à escala human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volver to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volver desde o princíp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Qualidade em 1º lug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prender com os out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controlo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ilhar control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o moment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lanear cuidadosam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r em conta o contexto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sturar méto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esso tão importante como produ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ssionais = apoia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peritos apropriadam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facilitador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talentos lo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cumentar/regist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peitar o saber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çamentar b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m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isualizar resulta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ar antes de corr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balhar a partir do loc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eitos de Plano, Programa e Proj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assific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iclo de vida e de planeament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Ópticas d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plan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ve ser entendido como o instrumento que defin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 grandes orientações estratégicas e os principais objectivos e prioridad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planeamento estratégico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plano tem, um âmbito geral (alargado ao conjunto do país ou região e ao conjunto dos sectores), nele sendo definidas as grandes linhas orientadoras do desenvolvimento económico e soc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oriais constituem os instrumentos que permitem a concretização dos planos (planeamento táctic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m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os e prioridades por ramos de actividade perfeitamente definidos e localizado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 são o instrumento directamente integrador dos projectos (nomeadamente ao definirem oportunidades e quadros de referência para es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o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ão o fulcro de um qualquer programa sectori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através deles (planeamento operacional) que se concretizam as metas previstas nos programas, satisfazendo os pressupostos de desenvolvimento inseridos nos pla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8001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332000" y="1989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63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148360" y="29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39640" y="4221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835280" y="450864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6720" y="4797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771640" y="3357720"/>
            <a:ext cx="1800" cy="10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572000" y="4221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6227640" y="3357720"/>
            <a:ext cx="180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6732720" y="3357720"/>
            <a:ext cx="93492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651640" y="4437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7236000" y="436572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2552400" y="2492280"/>
            <a:ext cx="11588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076720" y="2276640"/>
            <a:ext cx="71928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 flipH="1">
            <a:off x="3344760" y="2276640"/>
            <a:ext cx="7970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 flipH="1">
            <a:off x="5073480" y="3357720"/>
            <a:ext cx="50976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3348000" y="3429000"/>
            <a:ext cx="43200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1544400" y="3357720"/>
            <a:ext cx="50940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junto sistematizado de informação destinado a fundamentar uma decisão de investimento (Abecassis e Cabral, 198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posta para efectuar um investimento destinado a criar, ampliar e/ou desenvolver determinadas instalações e equipamentos a fim de aumentar a produção de bens e serviços numa comunidade durante um certo período de tempo (UNIDO, 199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4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46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dade de investimento que se pode distinguir técnica, comercial e economicamente de outros investimen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mais pequena unidade de actividade que pode ser separadamente planeada, analisada e administrativamente implementada. (Solomon, 19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junto de acções utilizadoras de recursos, das quais se espera obter no futuro benefícios, monetários ou não, repartidos por um dado período de tempo (Rebelo, 198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posta de aplicação no presente de um conjunto de recursos relativamente escassos, associados a actividades com e/ou sem carácter de investimento, directa ou indirectamente produtivas, feita com a intenção de gerar no futuro um fluxo de bens e serviços cujo valor se espera ser superior aos recursos que se propõem ser utilizados (Avillez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198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específico utilizado por uma entidade pública ou privada, para atingir objectivos por cuja fixação é responsáve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globa diferentes fases tais como a determinação dos objectivos, a escolha do método (ou tecnologia) de combinação dos recursos disponíveis, a determinação das despesas e receitas associadas à efectivação de tal escolha, a escolha das fontes de recursos e o estudo do enquadramento legal e administrativo do projecto (Espada, sem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rícolas; industriais, servi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ducação de adul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oio à terceira ida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ureza do investid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v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úblic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operativo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ureza dos investimen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ção (formação, animação, etc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vestimentos em substituição e expansão, modernização ou inov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ratég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po de acções previs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amente produ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rectamente produtivos (não directamente produtiv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Necessidade do Planeamento para o 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desenvolvimento económico e social de um país envolve, inevitavelmente, o problema fundamental da utilização racional de recursos limit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 se atingirem os diferentes objectivos de desenvolvimento, os recursos disponíveis têm de ser adjudicados a cada um de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plitude dos efeitos e agentes envolvi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idência empresarial (âmbito individu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idência regional (âmbito colectiv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iclo de Vida ou de Planeament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concepção e de formul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ecução ou re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ploração ou funciona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tin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dinâmico que se desenvolve ao longo do ciclo de vida dos projectos e que se baseia na comparação entre os objectivos de natureza empresarial ou social que se propõem atingir e os efeitos esperados e alcançados com a realização dos mesm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refa contínua e ampla que começa com a identificação do projecto, continua através de todas as fases da sua formulação, implementação e mesmo após a extinção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...envolve a recolha sistemática de informação acerca das actividades, características e resultados dos programas, pessoal e produtos, para utilização de pessoas específicas, a fim de reduzir incertezas, melhorar resultados e tomar decisões relativamente ao que esses programas, pessoal ou produtos fazem ou afectam" Patton (198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e, "...não só para identificar as diferentes implicações de qualquer projecto de desenvolvimento e para assegurar que as medidas adequadas de controlo venham a ser adoptadas, mas também e sobretudo, como instrumento que garanta que, na tomada de decisões, haja uma clara consciência dos vários efeitos positivos e negativos do projecto" (Vaz, 199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visão e contro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que acompanha o período de vida útil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p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é feita no final do período de vida útil do projecto, tendo importância decisiva para a reestruturação, expansão do projecto ou novas ideias de investim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mpresari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a ou das entidades directamente responsáveis, em função dos objectivos de natureza empresarial ou privada por elas visados. A análise é chamada de empresarial ou financei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feita na perspectiva do conjunto dos agentes económicos e sociais que integram a colectividade, em função de objectivos de natureza económica (por exemplo eficiência de utilização de recursos ou substituição de importações) e social (equidade na distribuição de rendimentos, combate à pobreza, suporte a grupos específicos, protecção do ambiente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e projectos segundo esta perspectiva é normalmente chamada, consoante os casos, de análise de eficiência económica, análise de equidade social, análise de impacto ambiental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Necessidade do Planeamento para o 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 a utilização dos recursos é eficientemente planeada aumenta a capacidade de se realizarem mais e melhores objectivo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 isso, o planeamento e a avaliação do desenvolvimento tem de ser preocupação prioritária dos centros de decisão responsá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empresar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assegurar não só a completa recuperação dos capitais investidos, como para criar um rendimento financeiro adicional suficiente para cobrir os juros de capital (próprios e alheios) e remunerar ainda a actividade de direcção do empresário e o risco que assu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nacional, social ou colectiv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contribuir para a prossecução de objectivos nacionais bem defini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basicamente determinada pelo valor acrescentado económico e social que o projecto gera ao longo do seu período de vida út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ec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o teste de eficiência absolu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ste em determinar se o projecto é ou não viável, se apresenta ou não rendibilidade que justifique a sua implement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erarquização de projecto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situação de restrição de recursos, nem todos os projectos podem ser realiz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ém portanto compará-los nas mesmas circunstâncias e determinar os que apresentam os melhores resultados - é necessário testar a sua eficiência rela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diferentes variáveis assumem valores dentro de determinadas amplitudes; estes valores são os que, à partida, se pensa serem os mais prováve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in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variáveis mais significativas são identificadas assim como a sua possível gama de variação. São estimados, para cada variável, os valores mais prováveis de ocorrência e as probabilidades de ocorrênc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Efeitos directos e indirect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lquer projecto apresenta sempre efeitos indirectos dificilmente medidos pelos critérios normalmente us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efeitos indirectos constituem também benefícios e custos adicionais, causados pelo projectos e como tal devem ser considerados juntamente com os critérios b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ão exemplos de possíveis efeitos indirectos, muitas vezes esquecidos pelos avaliadores as implicações no ambiente, na saúde, nas qualificações, na qualidade de vida das populações e na justiça social dos proje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 desenvolvimento planificado requ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fixação e priorização de objectivos de desenvolvi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reparação e implementação de diferentes planos, programas e projec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eamen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de preparação de decisões para acção futura dirigida para alcançar determinados objectiv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trumento que permite organizar a acção para realizar os objectivos de desenvolvimento (...) de maneira a que os recursos nacionais sejam explorados racionalmente para responder às necessidades sempre crescentes das populações e de maneira a que nenhum sector da economia seja negligenci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Conceito de Planeamen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que vai do acto de elaboração de um plano até à efectiva adequação dos meios aptos a realizá-lo implicando diversas fa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ção das orientações gerais (definição do projecto soci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ção dos objectivos para um dado perío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trole da ocorrência e adopção dos objectivos intermédios segundo certas prioridad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colha e estabelecimento dos projec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erfeiçoamento e difusão do plan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justamento e programas anuai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que engloba cinco diferentes etapas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álise dinâmica da situação pres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ição dos objectivos para o program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imento do programa seguido da preparação do plano de trabalho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lementação do programa através da execução do plano de trabalh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o programa e suas realizações como base para planear futuros progra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imensões do Plane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eir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écn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pacial (território); local, regional, nacional e intern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mpo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ori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ganizacion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tureza do plano, programa, proj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tic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2-28T01:47:03Z</dcterms:modified>
  <cp:revision>47</cp:revision>
  <dc:subject/>
  <dc:title>Introdução às Políticas Agrárias</dc:title>
</cp:coreProperties>
</file>